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0942-AA2E-477A-BFA6-DEEA48BE7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EB94-B5C5-4488-9A99-AD7F59D67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A096-AD82-42E1-B16F-8F05D8676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5CB3-EBDF-46AD-A6B2-DBCB094AB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gracebioblog.blogspot.ca/2010/05/artificial-selection-good-or-ba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116E-FB60-4304-92AA-E97086A6C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volution.berkeley.edu/evolibrary/article/evo_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BFBA-C62A-435E-B42E-6201C1CB0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lackwellpublishing.com/ridley/tutorials/quantitative_genetics23.a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1983-4D05-48C4-B019-1C012152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6149-5DEC-4105-9936-6D931826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EB3D-867D-4245-89F2-C43F4E8B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DFA1-BB36-4CB9-A54C-3AFB27B1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AA66-60A1-488B-90D1-708BF7EE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76C6-EE35-4741-8A85-21E24D3E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1A77-1CBE-4BF9-8A58-957B8502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EF64-46F2-4D11-96DA-0A087FC4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56FA-434E-4B33-83D8-12692FDF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AA77-5D62-43BC-BC85-C56A8494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E49E-5E84-4B36-95E5-AA688F34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9377-B7F2-4572-A00A-036A763F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F14D-1B42-4BCD-B53A-E219B288D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Change Over Tim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al reproduction ensures that there is genetic variation in the offspring &amp; the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tions cause additional genetic vari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tral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o selective 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rmful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duce reproductive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efic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crease reproductive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fici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breeding (of animals, plants, etc.) for particular desirable tra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bidogtree"/>
          <p:cNvPicPr/>
          <p:nvPr/>
        </p:nvPicPr>
        <p:blipFill>
          <a:blip r:embed="rId1"/>
          <a:stretch/>
        </p:blipFill>
        <p:spPr>
          <a:xfrm>
            <a:off x="4495680" y="2066760"/>
            <a:ext cx="43434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mustardselection"/>
          <p:cNvPicPr/>
          <p:nvPr/>
        </p:nvPicPr>
        <p:blipFill>
          <a:blip r:embed="rId1"/>
          <a:stretch/>
        </p:blipFill>
        <p:spPr>
          <a:xfrm>
            <a:off x="685800" y="858960"/>
            <a:ext cx="777240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selection_corn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eders must work with the existing genetic diversity, or they can use genetic engineering techn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13:12:05Z</dcterms:created>
  <dc:creator>rubina khan</dc:creator>
  <dc:description/>
  <dc:language>en-US</dc:language>
  <cp:lastModifiedBy>rubina khan</cp:lastModifiedBy>
  <dcterms:modified xsi:type="dcterms:W3CDTF">2016-05-27T14:22:39Z</dcterms:modified>
  <cp:revision>39</cp:revision>
  <dc:subject/>
  <dc:title>PowerPoint Presentation</dc:title>
</cp:coreProperties>
</file>